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420D-7416-4E2F-B078-F5C3FF81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EA7A-C3F6-4D3C-BAF1-1228A6EC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227B-EC02-4A27-AA1C-0341CBED3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E0F7-57BE-4FDD-9F22-E25391DB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D92A-04D9-45D7-8DCC-A02ADA27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8B85-341F-45EC-AF5C-E9000FD5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80DD-2957-4770-AF35-4C9545CB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BD2D-E58A-4087-89B8-2D43ECAA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187A-2ED4-4DDA-B23C-B7CF5916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CFA0-C9C8-4714-B233-D41DB15F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C905-9AFC-4ADD-B409-FC1864D6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9A7B-203A-458F-B27C-EA03CDC5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7279-2B3C-4A58-BB9A-2978AB1C9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6643440" cy="14349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52480" y="1752480"/>
            <a:ext cx="4191120" cy="471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90880" y="17892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04920" y="2525760"/>
            <a:ext cx="830556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38188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89640" y="16668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1866960" cy="355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8076960" cy="3419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7200" y="4343400"/>
            <a:ext cx="8458200" cy="1442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76520" y="464832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464832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0120" y="457200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5410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458200" cy="6610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2120" y="6324480"/>
            <a:ext cx="12952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6324480"/>
            <a:ext cx="1447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25520" y="1392120"/>
            <a:ext cx="649116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9067680" cy="5802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05120" y="5334120"/>
            <a:ext cx="62481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9172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7T15:50:27Z</dcterms:created>
  <dc:creator>Graham</dc:creator>
  <dc:description/>
  <dc:language>en-US</dc:language>
  <cp:lastModifiedBy>Graham</cp:lastModifiedBy>
  <dcterms:modified xsi:type="dcterms:W3CDTF">2012-08-08T12:17:17Z</dcterms:modified>
  <cp:revision>2</cp:revision>
  <dc:subject/>
  <dc:title>Slide 1</dc:title>
</cp:coreProperties>
</file>